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7FD6-23EF-4EBB-AAEA-BF6763B0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B12A-471B-46F7-8E17-94E13D6D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EA5-0661-4EAE-9BBB-D3B1FBAC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DE3-3AB0-4D89-9107-7830A7A6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6B4A-B322-42DF-A7C0-F5AABE41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4158-B496-40DB-AE00-78B67E2C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A51A4-1342-4DDF-8228-D6CEFE04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FC4A-8390-4C97-BC13-DE2F67EA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F94E-72CB-4508-A154-8F4A48B6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7D72-E96C-48B2-A342-B0187682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BD50B-9E43-43E3-98C0-2DBF11B2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25F-860E-4696-B457-C2049EFD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DC53-9BC6-489D-A62C-319EE5F2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5AB5-EB84-47E9-BD6D-5A5C560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62FC-5C94-4B6F-BC00-6FCC1EBD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508F-ECF1-4855-BF44-8A2F89BE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E40-76AA-4948-9081-80D2B870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7C92F-60A7-4946-B42F-E42F8E281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D0DC1-04D6-4EBA-A0A3-5BF8BC31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ABCD8-B47B-489C-B562-E3E59CA0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C6701-E676-4EA6-A339-88B21BC8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E077-48E0-4BBF-BF87-7034FD87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AC87-8640-40F2-B455-5A718CE4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25ED-AC12-4943-ADA6-B187B58A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C6DE0-4993-4AD8-B94A-D93E565A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2515-C22C-47EA-9B11-AD5FE88A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2CB9-DB82-477A-AFB2-9A437FC8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4B33B-1D88-4991-A464-4F3389CD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3684-05D8-4BC3-BC6A-D7AC93D5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5692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3360" y="182484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1084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5692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3360" y="4000320"/>
            <a:ext cx="261504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E523F-D684-4D16-B1A3-E1CA77D2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662D-14FE-41CC-AE19-E786B5F7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5DF-B3B6-4767-9B49-4ACE828C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12680" y="269640"/>
            <a:ext cx="6975000" cy="47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D69-9341-4093-9772-EEFDB793A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8CD7-9EE4-4D0E-963E-49E00442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416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00032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F36-CBFF-41AA-8D4A-771A86CF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084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1824840"/>
            <a:ext cx="396360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0840" y="4000320"/>
            <a:ext cx="8122320" cy="19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926-FE3E-4293-9015-44BE5BAC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9065-F015-494C-B3EE-60B7DC7CB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Блок-схема: задержка 6"/>
          <p:cNvSpPr/>
          <p:nvPr/>
        </p:nvSpPr>
        <p:spPr>
          <a:xfrm>
            <a:off x="142920" y="142920"/>
            <a:ext cx="1714320" cy="1357200"/>
          </a:xfrm>
          <a:prstGeom prst="flowChartDelay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Рисунок 7" descr="7d246940b435.png"/>
          <p:cNvPicPr/>
          <p:nvPr/>
        </p:nvPicPr>
        <p:blipFill>
          <a:blip r:embed="rId2"/>
          <a:stretch/>
        </p:blipFill>
        <p:spPr>
          <a:xfrm>
            <a:off x="285840" y="214200"/>
            <a:ext cx="1247760" cy="1209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1180-B6C3-4474-8030-B8F09B2118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0840" y="1824840"/>
            <a:ext cx="8122320" cy="4164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b05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4059-D883-4074-8DCD-DB2BB2B404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2920" y="2492280"/>
            <a:ext cx="7629120" cy="1326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ba42c"/>
                </a:solidFill>
                <a:latin typeface="Times New Roman"/>
              </a:rPr>
              <a:t>ЭКОЛОГИЧЕСКАЯ СУКЦЕССИЯ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4760" y="1824480"/>
            <a:ext cx="8358840" cy="2301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исходит снижение скорости прироста биомассы сообщества (продукции сообщества) и в увеличении количества энергии, требуемой для поддержания его жизни. Это наиболее важное явление сукцессии. На ранних стадиях первичной сукцессии скорость прироста биомассы растениями высока, но на последующих стадиях она падает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rcRect l="6220" t="19528" r="5827" b="16273"/>
          <a:stretch/>
        </p:blipFill>
        <p:spPr>
          <a:xfrm>
            <a:off x="2484360" y="4437000"/>
            <a:ext cx="3936960" cy="21560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71880" y="2289240"/>
            <a:ext cx="3647880" cy="1558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произойдёт с сообществом  при постепенном зарастании озера?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rcRect l="2288" t="0" r="824" b="0"/>
          <a:stretch/>
        </p:blipFill>
        <p:spPr>
          <a:xfrm>
            <a:off x="179280" y="333360"/>
            <a:ext cx="4445280" cy="612144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5158080" y="630720"/>
            <a:ext cx="3363120" cy="28598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смотря на то, что биогеоценозы являются устойчивыми и саморегулирующимися системами, происходит постепенная смена менее устойчивых биогеоценозов на более устойчивые. </a:t>
            </a:r>
            <a:endParaRPr b="1" lang="en-US" sz="20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4681800" cy="3511800"/>
          </a:xfrm>
          <a:prstGeom prst="rect">
            <a:avLst/>
          </a:prstGeom>
          <a:ln w="9360">
            <a:solidFill>
              <a:srgbClr val="11895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50920" y="4365720"/>
            <a:ext cx="8713800" cy="1584360"/>
          </a:xfrm>
          <a:prstGeom prst="roundRect">
            <a:avLst>
              <a:gd name="adj" fmla="val 16667"/>
            </a:avLst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едовательная смена одних сообществ другими на определенной территории носит названи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экологической сукцесси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РВ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1080" y="1675440"/>
            <a:ext cx="842184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кцессия, которая начинается на абсолютно лишенном жизни месте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rcRect l="0" t="16301" r="0" b="0"/>
          <a:stretch/>
        </p:blipFill>
        <p:spPr>
          <a:xfrm>
            <a:off x="1042920" y="3573360"/>
            <a:ext cx="7020000" cy="2711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12680" y="269640"/>
            <a:ext cx="697500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ТОРИЧНАЯ СУКЦЕССИ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60720" y="1675440"/>
            <a:ext cx="8456760" cy="139104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сли сообщество развивается на месте, где существовал хорошо развитый биоценоз, то сукцессия буде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торично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403280" y="3429000"/>
            <a:ext cx="619128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47920" y="268200"/>
            <a:ext cx="8100720" cy="14713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 ОПРЕДЕЛЯЕТС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34615" t="30699" r="13370" b="23102"/>
          <a:stretch/>
        </p:blipFill>
        <p:spPr>
          <a:xfrm>
            <a:off x="1042920" y="1989000"/>
            <a:ext cx="71280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39800" y="269640"/>
            <a:ext cx="8147880" cy="103140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ДОЛЖИТЕЛЬНОСТЬ СУКЦЕССИ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640" y="1710000"/>
            <a:ext cx="8386920" cy="204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одолжительность основных стадий вторичной сукцессии в умеренном климате: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ервая – травянистая растительность – около 1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торая – кустарники – 10-25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етья – лиственные деревья – 25-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  <a:p>
            <a:pPr indent="1857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етвертая – хвойные деревья – более 100 лет</a:t>
            </a:r>
            <a:endParaRPr b="1" lang="en-US" sz="18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1116000" y="38862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5680" y="1878120"/>
            <a:ext cx="8397000" cy="195012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ы растений и животных в процессе сукцессии непрерывно сменяются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менение видового состава часто определяется соперничеством разных видов за одни и те же пищевые или иные ресурсы; ведь происходящие в ходе сукцессии изменения экосистемы создают благоприятные условия для колонизации сообщества новыми видами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36240" y="1785600"/>
            <a:ext cx="8435880" cy="158580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кцессионные изменения всегда сопровождаются повышением видового богатства, т.е. разнообразия организмов.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713800" cy="217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9520" y="279360"/>
            <a:ext cx="8488800" cy="1212120"/>
          </a:xfrm>
          <a:prstGeom prst="rect">
            <a:avLst/>
          </a:prstGeom>
          <a:gradFill rotWithShape="0">
            <a:gsLst>
              <a:gs pos="0">
                <a:srgbClr val="537e25"/>
              </a:gs>
              <a:gs pos="100000">
                <a:srgbClr val="92da46"/>
              </a:gs>
            </a:gsLst>
            <a:lin ang="0"/>
          </a:gradFill>
          <a:ln w="12600">
            <a:solidFill>
              <a:srgbClr val="00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ВОЙСТВА СУКЦЕССИОННЫХ ИЗМЕНЕНИЙ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7160" y="1766520"/>
            <a:ext cx="8474040" cy="1235160"/>
          </a:xfrm>
          <a:prstGeom prst="rect">
            <a:avLst/>
          </a:prstGeom>
          <a:solidFill>
            <a:srgbClr val="92d050">
              <a:alpha val="27000"/>
            </a:srgbClr>
          </a:solidFill>
          <a:ln w="12600">
            <a:solidFill>
              <a:srgbClr val="006600"/>
            </a:solidFill>
            <a:prstDash val="dashDot"/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исходит увеличение биомассы органического вещества. Население сообщества как бы уплотняется по мере увеличения видового богатства. </a:t>
            </a:r>
            <a:endParaRPr b="1" lang="en-US" sz="2400" spc="-1" strike="noStrike">
              <a:solidFill>
                <a:srgbClr val="00b05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29:43Z</dcterms:created>
  <dc:creator>Admin</dc:creator>
  <dc:description/>
  <dc:language>en-US</dc:language>
  <cp:lastModifiedBy>Admin</cp:lastModifiedBy>
  <dcterms:modified xsi:type="dcterms:W3CDTF">2013-03-10T14:10:21Z</dcterms:modified>
  <cp:revision>28</cp:revision>
  <dc:subject/>
  <dc:title>Слайд 1</dc:title>
</cp:coreProperties>
</file>